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22C2F-C6BE-457E-B85E-BB4A20AE0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E8E3-CDC4-4E7D-845E-18756572F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B397-AAE9-48A6-AD3E-0700196B7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47DD-F038-4893-9843-6EDCC3E0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7CCDF-969F-4B81-BDBA-DDA8B7B39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BA88B-44F7-4056-A74D-F8BD7B900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CD105-6BAA-4BDE-8E12-AE7413D0F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4C7F8-EC3D-4D66-968A-AC0FC0B0E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45420-06ED-40C8-B1F1-E41396F98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DF6F-FFD9-4188-9E70-3D2FFFDBD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48594-F5D6-43D0-BE30-0BE65C500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190CA-AD1C-4983-A385-902BA0ED4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8EF3-5BF1-49A7-909C-F133C899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3F84-B87E-46AA-9F26-9A8E9666B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AC8D5-7814-4ABE-BE30-2815BF64B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0355B-3186-4B38-94BF-F40E9CD23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7B497-43BB-4AD0-B82C-BC8E63704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456C9-B319-4713-9D03-A6A09D901D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BB787-E9B7-4E72-A57C-26841887A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85FF7-70A3-475D-AF7C-593C8CCAE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F01E4-7CBE-465C-BE41-716BA3C7F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22C47-6828-4492-A145-C4F42CFBE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17E24-9D41-48DA-84E8-8E58A30E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8DBDD-140A-42D5-91A8-528186C1E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E30E2-166E-42DF-92CE-E0A331155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5D022-96E4-4DA4-8E8F-733292572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FF353-E064-4D8D-80F5-AF09D2BBA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7E4E6-21B7-4862-90EE-50B72CADD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F7B29-9FF0-458C-BE54-BD5736974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4F4E67-9C2D-4D7F-99E5-390C74BE62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5D88AE-5265-400A-9C0D-550076EFA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3C8F5-F06E-43F1-91B0-3919C33BC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84F29-34EA-494B-95F3-8BAF8FF73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E14D8-2764-40B7-B925-9C8ED26F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4DCDC-396A-427E-907A-F6BBFE6E1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86CBD-2CDB-43B9-8F77-EDA030DC7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74BFF-33B8-4195-9C85-BF7DA89AC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F7395-2E40-4B28-AC49-C797E9D0B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D6012-9D55-47AC-AD06-08641888E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7C859-6F1E-4E7C-A59C-BF0BADB62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762D7-A214-4590-86E9-F508D90E9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BB1F9E-FD5D-4309-995C-6DBFCDCA7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4CF14-1A58-4837-A69A-E34CF0FEC4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FD6E25-253D-407A-AB48-1E14FCEDCB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98C4-46C8-4684-870D-927C77FE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7D094-D5B9-4052-835D-8674FE991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01E34-7960-4F83-8A98-A2B9D4EE4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48D57-B07C-448C-84DD-9ACB267C9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8C8F4-73F6-4E60-A19C-684D654C8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D9AAA-2FD1-49A1-B200-10BCC775F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5ED17-49E6-4136-9F19-BA046016A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18B21-5C2D-4616-A17C-5EFD32FFF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4644D-F636-49DF-B3F8-EA8502241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CECE8-214B-4A4D-8E5F-2815B6BB2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499CB7-292F-4CF9-8402-DB8832B53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9051-6207-422D-B93B-53864D4A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E3EA83-ABA8-4E91-B168-C50A0A3588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F6451A-AA67-4CF5-B22D-B89B470F1C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21C56B-C8CC-4510-AE17-34E6A8E3B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9825C-7D1A-43D5-B59B-4D61E72714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168B8-AE8C-4598-994A-94A915B07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3CD34-30D1-41B9-AA94-38E3DAC82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B3B26-3401-4079-B26C-CC4561B34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68486-8499-4DE8-A536-07B51F81E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046B1-A823-4BCD-8911-767D2374B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E68B9-D449-4C4A-8E11-D00162C3C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4833-3B2D-4836-BA61-9BD02A60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72475-CD61-473A-A531-4ABF9E695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7D5348-9346-49FF-97D7-52F59B6E77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4539B-2194-4FC1-B6E1-123AA6B516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1166-1BC6-48B8-8410-BFC36008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F211-5ED6-498F-8D25-B1FCBDEBA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15 Serbest Form"/>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68A5-ED14-4386-89FD-549D376D33B3}"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12 Serbest Form"/>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16CB-774B-4205-9BDB-24C1F136C18F}"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12 Serbest Form"/>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07A9-A73C-41C9-A185-72FE4774FF8A}"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5AE3-D0D3-4E8D-B8B9-AFAA4EC1CD12}"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15 Serbest Form"/>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F504-7ECB-4A2A-9D95-75F47077816D}"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B58E-60BD-469C-B509-D65A3BE68C83}"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Başlık" descr=""/>
          <p:cNvPicPr/>
          <p:nvPr/>
        </p:nvPicPr>
        <p:blipFill>
          <a:blip r:embed="rId1"/>
          <a:stretch/>
        </p:blipFill>
        <p:spPr>
          <a:xfrm>
            <a:off x="420840" y="3200400"/>
            <a:ext cx="683892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000" spc="-1" strike="noStrike">
              <a:solidFill>
                <a:srgbClr val="ffffff"/>
              </a:solidFill>
              <a:latin typeface="Arial"/>
            </a:endParaRPr>
          </a:p>
        </p:txBody>
      </p:sp>
      <p:pic>
        <p:nvPicPr>
          <p:cNvPr id="256" name="Picture 2" descr="G:\Yeni Klasör\images.jpg"/>
          <p:cNvPicPr/>
          <p:nvPr/>
        </p:nvPicPr>
        <p:blipFill>
          <a:blip r:embed="rId2"/>
          <a:stretch/>
        </p:blipFill>
        <p:spPr>
          <a:xfrm>
            <a:off x="2792520" y="628560"/>
            <a:ext cx="2328840" cy="231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liğin gerektirdiği mesleki eğitimi yap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önetim süreçlerinde bilgi ve becer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eslekle ilgili yasalar hakkında bilgiy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iderde aranılan niteliklere sahip ve uyanık.</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nsan ilişkilerini sağlama ve geliştirme yeteneğine sahip,</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Rehberlik ve danışmanlık bilgi ve hüneri kazanmış,</a:t>
            </a:r>
            <a:endParaRPr b="0" lang="en-US" sz="3000" spc="-1" strike="noStrike">
              <a:solidFill>
                <a:srgbClr val="ffffff"/>
              </a:solidFill>
              <a:latin typeface="Arial"/>
            </a:endParaRPr>
          </a:p>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meslekte gelişmesini sağlayan şahıs,</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değerlendirilmesini yalnız ve hatasız yapan şahı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3628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Liderlik Nitelikleri</a:t>
            </a:r>
            <a:endParaRPr b="0" lang="en-US" sz="4100" spc="-1" strike="noStrike">
              <a:solidFill>
                <a:srgbClr val="ffffff"/>
              </a:solidFill>
              <a:latin typeface="Franklin Gothic Book"/>
            </a:endParaRPr>
          </a:p>
        </p:txBody>
      </p:sp>
      <p:sp>
        <p:nvSpPr>
          <p:cNvPr id="280" name=""/>
          <p:cNvSpPr txBox="1"/>
          <p:nvPr/>
        </p:nvSpPr>
        <p:spPr>
          <a:xfrm>
            <a:off x="468000" y="1844640"/>
            <a:ext cx="7467480" cy="4525920"/>
          </a:xfrm>
          <a:prstGeom prst="rect">
            <a:avLst/>
          </a:prstGeom>
          <a:noFill/>
          <a:ln w="0">
            <a:noFill/>
          </a:ln>
        </p:spPr>
        <p:txBody>
          <a:bodyPr lIns="90000" rIns="90000" tIns="46800" bIns="46800" anchor="t">
            <a:normAutofit/>
          </a:bodyPr>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 değişen ve gelişen bir ortamda çalışır. Bu nedenle yenilikleri yakından izlemeli, değişme ve gelişmelerin öncüsü, önericisi, deneticisi ve değerlendiricisi olmalıdır. Başarılı bir liderlik için aranılacak nitelikler kişilerin görüşlerine göre değişik olabilirse de müfettiş kişilerden çok grupla çalışacağından aşağıdaki liderlik özellikleri aranır.</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ideal ve görüşlerine,  inançlarına, haklarına ve değer yargılarına karşı saygılı,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imlerle birlikte çalışacağı, ilişki kuracağı ve işbirliği yapacağı hakkında bilgili,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un politikası ve yararları hakkında başkalarını aydınlatmaya, yetenekli ve istek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62064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yetki ve sorumluluğunu anlamada, vermede yetenekli ve bilgi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hatalarını ortaya koymada, kıskançlık duygu ve hasetlerine karşı uyanık ve dikkat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6" name="Picture 3" descr="G:\Yeni Klasör\P1C8GDCAOXFMDKCANRF2YOCANRJ39GCAVJNOD5CAHVCKTQCAJDLXE1CABPY6BKCAF3WGHECA7FP5TACA9HT6R7CA1LAIBQCA7VHJU4CAJ52QATCALKOVEPCARKA7COCATDBED2CAIR34NICA1IYVUU.jpg"/>
          <p:cNvPicPr/>
          <p:nvPr/>
        </p:nvPicPr>
        <p:blipFill>
          <a:blip r:embed="rId1"/>
          <a:stretch/>
        </p:blipFill>
        <p:spPr>
          <a:xfrm>
            <a:off x="5651640" y="4449600"/>
            <a:ext cx="3382920" cy="45230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daha iyi yaşaması ve gelişmesi için gerekli olanakları sağlamaya istekli ve gayret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maçlara ulaşmak için plan ve programlar hazırlama bilgi ve becerisin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örevleri tamamlamak ve amaçlara ulaşmak üzere iyi organize bilgi ve becerisin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iderlik dinamizmine ilişkin yeterli bilgi ve uygulama beceris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362800" cy="424836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lternatifler arasında seçim yapma, çabuk ve isabetli karar verme yeteneğini geliştirmi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ararlarda sağlam olmak üzere esas delilleri elde eden, fakat inat etmeyen insan,</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erilen kararları, koşulları göz önünde bulundurarak uygulama becerisi kazanmış,</a:t>
            </a:r>
            <a:endParaRPr b="0" lang="en-US" sz="3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920" y="549360"/>
            <a:ext cx="8245440" cy="5749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 sistemin amaçlarına yönelik olarak çalışma durumunun değerlendirilmesi, sistemin bütünlüğü ve sistemden çıkan ürün için önem taşır.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lerin alt sistemleri arasında bütünleşmenin sağlanması ve her birine amaçlar doğrultusunda, bütünlüğü bozmadan rehberlik ve denetimin yapılması zorunludur.</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lerde bu hizmetin tümünü kapsayan sürece teftiş ve hizmeti gören elemana müfettiş adı verilir.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şleri tamamlama, iş usullerini geliştirme ve değerlendirme bilgisin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 güdeleyen, prestij ve statü sorularında dikkatli olan,</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in politika ve organizasyonuna ilişkin çalışmalarda katkıda bulunmak için bilgili ve istekli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Franklin Gothic Book"/>
              </a:rPr>
              <a:t>Hazırlayan</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esut Özdem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59" name="Picture 2" descr="G:\Yeni Klasör\şş.jpg"/>
          <p:cNvPicPr/>
          <p:nvPr/>
        </p:nvPicPr>
        <p:blipFill>
          <a:blip r:embed="rId1"/>
          <a:stretch/>
        </p:blipFill>
        <p:spPr>
          <a:xfrm>
            <a:off x="1914480" y="1427040"/>
            <a:ext cx="5138640" cy="7704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404280"/>
            <a:ext cx="82803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Kişisel Nitelikler</a:t>
            </a:r>
            <a:endParaRPr b="0" lang="en-US" sz="41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te aranılacak nitelikleri kesin olarak saptama ve sınırlama olanağı yoktur. ayrıca, aranılan niteliklerin çoğunluğu duygusal alanlarla ilgili olduğundan ölçütlerini de koymak oldukça zordur. müfettişte aranılan aşağıdaki kişisel nitelikler toplumun değer yargılarıyla bağımlıdır.</a:t>
            </a:r>
            <a:endParaRPr b="0" lang="en-US" sz="30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üven ve saygı kazanma yeteneğin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endine güvenen, ehliyetli ve liyakat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empatik, duygulu ve işlerinde kararlı,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amimi, hisli ve iyi alışkanlıklar kazanmış,</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yi huylu, sıcak kanlı, yerine göre nükteda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3141720"/>
            <a:ext cx="8686800" cy="345600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eğer biçmede tarafsız, değerlendirme yapmada hatasız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şini benimseyen, seven, gayretli ve heves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5" name="Picture 2" descr="G:\Yeni Klasör\TR3Q5LCA05M6Y7CAOEI50KCAWM9C6QCAC5ACYNCABKW6K1CAZ6U5ZZCAAZISSYCAVI9Z8YCAXZAAKMCACZWPDFCABNTR0XCANLK80RCAV2URDOCAUKOZ0MCAAYM0S3CAQK9GH4CAX56EF3CAMT63IN.jpg"/>
          <p:cNvPicPr/>
          <p:nvPr/>
        </p:nvPicPr>
        <p:blipFill>
          <a:blip r:embed="rId1"/>
          <a:stretch/>
        </p:blipFill>
        <p:spPr>
          <a:xfrm>
            <a:off x="2779560" y="347760"/>
            <a:ext cx="3803760" cy="5089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
          <p:cNvSpPr txBox="1"/>
          <p:nvPr/>
        </p:nvSpPr>
        <p:spPr>
          <a:xfrm>
            <a:off x="394920" y="11970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nceleyici, gözlemci, araştırıcı ve bulucu,</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da, işinde ve çevresinde kaynak şahıs,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üzenli, kılık ve kıyafetine önem veren şahı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8" name="Picture 2" descr="G:\Yeni Klasör\müfettiş resimleri.bmp"/>
          <p:cNvPicPr/>
          <p:nvPr/>
        </p:nvPicPr>
        <p:blipFill>
          <a:blip r:embed="rId1"/>
          <a:stretch/>
        </p:blipFill>
        <p:spPr>
          <a:xfrm>
            <a:off x="2487600" y="3444840"/>
            <a:ext cx="4278240" cy="62848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Mesleki Nitelikler</a:t>
            </a:r>
            <a:endParaRPr b="0" lang="en-US" sz="41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 teftiş ettiği kurumda, bir alan uzmanı olarak rol oynayacaktır. bu nedenle kurumlar genellikle müfettişlerini, kurumun iş alanına uygun meslek veya branşta öğrenim yapmış elemanlar arasından seçme ve yetiştirme sistemini uygulamaktadırlar.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33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Franklin Gothic Book"/>
              </a:rPr>
              <a:t> </a:t>
            </a:r>
            <a:r>
              <a:rPr b="0" lang="tr-TR" sz="2800" spc="-1" strike="noStrike">
                <a:solidFill>
                  <a:srgbClr val="ffffff"/>
                </a:solidFill>
                <a:latin typeface="Franklin Gothic Book"/>
              </a:rPr>
              <a:t>Yetiştirme Programını Tamamlamış Bir Müfettişte Aşağıdaki Mesleki Nitelikler Aranır:</a:t>
            </a:r>
            <a:br>
              <a:rPr sz="2800"/>
            </a:br>
            <a:endParaRPr b="0" lang="en-US" sz="2800" spc="-1" strike="noStrike">
              <a:solidFill>
                <a:srgbClr val="ffffff"/>
              </a:solidFill>
              <a:latin typeface="Franklin Gothic Book"/>
            </a:endParaRPr>
          </a:p>
        </p:txBody>
      </p:sp>
      <p:sp>
        <p:nvSpPr>
          <p:cNvPr id="272" name=""/>
          <p:cNvSpPr txBox="1"/>
          <p:nvPr/>
        </p:nvSpPr>
        <p:spPr>
          <a:xfrm>
            <a:off x="456840" y="2575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eniş bir temel eğitim ve kültür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un iş alanıyla ilgili bilgiler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0:22:28Z</dcterms:created>
  <dc:creator>sporklb</dc:creator>
  <dc:description/>
  <dc:language>en-US</dc:language>
  <cp:lastModifiedBy>sporklb</cp:lastModifiedBy>
  <dcterms:modified xsi:type="dcterms:W3CDTF">2010-11-01T11:38:03Z</dcterms:modified>
  <cp:revision>14</cp:revision>
  <dc:subject/>
  <dc:title>MÜFETTİŞ NİTELİKLERİ VE YETİŞTİRİLMESİ</dc:title>
</cp:coreProperties>
</file>